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374-FA85-4B6E-B984-DB6004B8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E4F-F318-4934-9FBD-7A24B34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AB6-5937-4513-9ADF-C02E7213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8CE-115B-4946-B173-94A65118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65D-7C4C-4154-AA63-04B22E0B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F09-2D05-4775-AA8B-4AFCB2A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027-2D6E-4354-9818-26660AA1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768-726E-4D7C-A9B9-3D6ABC3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177-89D4-42DC-A0A4-20AE4EC7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7B6-2312-4157-B69F-A736AB4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06B-76CB-4E64-B9D4-86EF73D5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CC6-822E-4594-9194-3B53449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3310-1F80-4599-8D66-39F080C11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1043964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home of Siberian Tiger, the West Siberian Plains is one of Russia’s major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rth European Plains lie in the northwest part of massive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West Siberi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world’s largest flat land in the world, the West Siberian Plains making it long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Home to the Siberian Tiger which few live in the wild as of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many rivers in the plain make the land muddy and wet in man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People can only live effectively in the southern part of this pl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orth Europe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most mild climate only is in this small area leaving the rest unfavorable clima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t of Russia’s small population lives in this south of this 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cow resides in the North European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Why Russia’s Land is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uch of it’s land is mountainous and hard to work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The West Siberian Plains is muddy and mushy with many rivers flowing throug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livable land is extremely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12014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Vivaldi"/>
              </a:rPr>
              <a:t>Central Siberian Platea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Lake Baikal the deepest freshwater lake is on this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Many people travel this plateau to see this lake which can be difficult with it’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57:06Z</dcterms:created>
  <dc:creator> </dc:creator>
  <dc:description/>
  <dc:language>en-US</dc:language>
  <cp:lastModifiedBy> </cp:lastModifiedBy>
  <dcterms:modified xsi:type="dcterms:W3CDTF">2010-12-15T19:24:00Z</dcterms:modified>
  <cp:revision>3</cp:revision>
  <dc:subject/>
  <dc:title>It’s Always Tougher n Russia</dc:title>
</cp:coreProperties>
</file>